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B4E-9DBB-4679-93FB-24846723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EAD-53D5-49DF-9015-0992C88C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55500-3860-49FE-8F67-8AF8F33F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C7043-D17C-4D72-B9B5-7A2780CC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4FD7-1DE3-4D8E-B7A6-DA70ACF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394AD-DE7D-407B-819F-752C3BF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F93A-245C-4F9E-B040-DAAD86B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4ADCC-5377-4117-8708-8562CBAD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FCB39-0538-4B83-B77C-33205276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648F9-C346-44D5-9A9E-47341D09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56B43-A5B7-4B57-A180-E3E8E37F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12095-1638-416D-ABCB-B5D78BC2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865-548A-43CA-A8BB-45E72CDC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DB8BB-D02F-4A15-ACEB-54C914A6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11F68-F30F-45FF-8931-90F7C0B9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377FB-73A2-4A6B-B0EE-02C8222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278F0-5F32-4018-8E90-90DFB4E9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868F-C6D5-44B6-9C2D-6E6134B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94F34-4849-4072-908B-5D2849E5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C46EF-E0D2-4E78-856F-D408F35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0BB4C-8D6F-49DB-A78C-D19177B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AA161-E56D-4D91-BDCA-E95A008F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81087-E831-42BA-B45E-2B9C7305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EC6-B307-4BFE-BA75-07126A4F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CAC4D-D8C0-4EBB-B306-EFD0A0B9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36D1C-3CE2-413C-B77E-F62B9DE4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D69C2-FAA4-430B-8E25-F6E52032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2C22B-6B16-4904-B198-3638458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6BFA1-2F38-468D-AC5E-EFC9B7D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D0E22-B5CD-4112-9E94-831BE30B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D3903-6EF1-4926-B3A1-4D3B563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6E53A-E0D8-4F1E-829F-7338F1A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6498-F88F-4669-BB78-EC4B105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A6DC5-03E0-4BA1-8723-4980218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B08-2B7E-4392-8565-EE41B71C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D4989-2DF8-475A-8821-9E2CC746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F7646-5A17-4E40-A52A-CF9B4C62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68903-BE30-41A8-8BF8-59B3BED1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DA349-D50B-4E1A-8B28-CC586F11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72D61-5E7E-453F-8DED-450454D2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89E62-47DF-40B5-8382-ABBF90B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31605-0FC8-4256-997C-2132315F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2FE8E-6DAF-4682-A04C-0584EFFE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BE6B-368B-40BB-9A3D-0EF11E7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1EAC9-C303-4EE8-8E57-0222C17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E5B-A19B-4CA7-9F8A-1D6268A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D7669-86BB-49D1-AD20-CD906F0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F35AA-A978-4065-9C72-62E51F3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8C2D0-6874-401A-AC56-C3925025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CF67F-3DE2-4A49-86EC-15CEC70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ABFC5-5ED0-4FE7-B405-7998C84F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0ABB-B1AE-47F1-A1BF-E2521C81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3C9-1C34-4C57-9E0E-563F9090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AD94-A127-48BB-8228-6254616C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D6FD-833D-40FB-AC4E-EFBBFC3E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4115-BD4C-4A13-AC2D-C336CE8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1D6-1A31-492B-9919-F8517DD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2C2B-5811-438D-9242-40A64BB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F544-12D3-4739-A03F-B4AB7237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199-171E-4E3C-BAB2-1EEDEA5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4E9-6762-4A15-B208-E4159DCA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E74E-EF22-4FAA-9C1D-5EA25684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35FC-4426-40A3-94AC-DC5811B0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103F-B07E-4BC0-9565-E0D0F904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E055-DA0E-41E2-80E1-5D926C2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34D9-2EA3-4C41-84FB-1138DDC8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551B-3A36-46FF-B05E-FDB1CD2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1BE-153B-4DC8-AC44-441FDBE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B1DC-0CC8-4163-A4FC-4F0DEA5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8942-A907-481A-A339-67844F2D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6646-F871-4381-A7C7-99A72E45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CBB5-7DFF-4ED9-A28E-E296E37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75E4-7E4F-4673-B9A2-9B14109E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39FB-355D-440A-AA49-D5741882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ED01-4D0F-4B24-B44B-8A711D15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557C-B7D5-4545-B9CD-6CF338F2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3CAC-93FF-47D0-9466-B681D6D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52D2-3028-47ED-82C8-0440FCE2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170-E1F5-409D-AF63-EA9408B1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F3FF-6935-4091-99DD-3FB5490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DC5F-50E9-4AC3-A19C-A741547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B623-FFE5-4C7D-8963-BD20666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DC14-96BC-4660-AFE7-8871783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AF56-8671-48B7-9AD8-9317FC8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6887-53B2-4659-A3DC-6671F9D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5917-3758-432E-81FC-CF5EA67F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CECD-F785-4D17-9F72-B6436675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2BC1-6682-43D4-AE3A-06A3C59B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DB10-55A1-4765-A2EA-A0B23EEC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026-0BD9-4146-8282-C7D5AB7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5E74-7543-4A9B-B0A8-3ED372B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E12B-E40A-4EA1-BD29-3AE193D6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582DC-F1F7-4C4F-96CA-0E5CDA51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746E-DA52-466E-8BC3-C30B02B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CE6A-DAA6-4928-AAE1-F77D588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0D22-241D-484A-B4DF-BD16517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CEE3-0247-41C1-964D-540A1B53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1B52-B970-43C4-9EBC-E3409E3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DE00-A9F7-4D22-8CE8-BBECCC2C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CB40-2571-4605-823F-06A411FB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974-153C-42BA-885F-35E8CDA2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628E-02A6-4DE0-B7DD-8358B17B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285D-A43C-4C02-B0C0-09C2070E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5983-E0DD-43D9-9B46-8611BB43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4280C-E560-4C32-9DEB-5478360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8170A-7ED5-4039-942C-3F22D930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0792-7609-4F36-B37D-54FC403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1993-62E3-49FD-BBC4-3E060DEB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DD2C5-92A8-4764-92FD-C3A3212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F7F5-1891-47F9-B268-524DBAF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BA83-21E0-4371-815B-31BFB81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97C-6351-41E2-8CDB-6EAFCF9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37A8-2914-45F0-800A-802150CC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5E95-2854-4D1A-96FF-6921FAC9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ADAD3-AE0E-4279-8B07-F5FE788D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D04AE-C43E-4EBF-9E2D-66D6B81D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496A-1A0D-40F3-A44E-4379957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9E3CF-5950-405D-97E2-46BB879E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5DDA-7BF2-4728-9C36-71F2076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896B-7216-4402-95C3-59D26083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9A240-3F76-4C6A-9022-8B27BE0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E0AC-E5F7-46B2-9A40-2A4BCC14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8DB-332B-43E9-976F-92D9A9B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23904-4D73-4AD3-8852-A3027F4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A173-C1A2-4BCA-A11B-A302638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73DB-AA9F-4F3D-9173-2645D614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89F9-E424-49A3-B883-EEA01BDD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97DF3-ACD4-4430-B9AD-C1CF215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DAA8-08B6-4C94-A304-9AFB2C38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98E2B-A868-4D08-AE7E-1E7204B9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BC6D-77BF-4FE1-BF79-BB14CEB6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01E3C-27E0-41BD-8A82-8D73CE56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4CFA-CCE8-4023-9C6C-C1DBB906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936-7623-4D7E-822D-99AE26D9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11692-73AC-4E74-B619-25634E3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FDBE-1B20-410A-9211-8D82E4D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515BC-70F0-4770-87C2-3281087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B542F-4F5E-482F-9DAA-8E3CFB54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DA30C-BC07-47E3-95FA-7510E412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C657-301C-4649-B9F0-FD2388B3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978E-5BAF-4239-AC52-D339E6B7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CD79-C649-402F-8850-5450AE98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00C2-2004-4F28-B68A-0F9DF43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1D564-534C-4E12-8C7E-5402A0E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BB3-EA1B-47B2-A82A-7495E7D6C2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B42E-45BE-477C-B261-EBDD5294B3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6F3D-78A3-462F-979F-FEA2C77D90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CFB-6215-4547-9F5E-9AD3AB95CE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0D57-82D7-4145-B293-A1077D0D5B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D86-DDC5-47FD-B7A6-EDF7D0E5BF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C23-1E30-4C48-817B-35B13B979F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81E-C2ED-4134-A40F-6417803210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EF45-54E9-447F-9C3B-A5F57DCE08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53C-9D37-4719-8555-D675C14618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6E68-F1A6-47FE-BBA2-5AF933C460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0B6-4CF6-4F0E-8F37-88516AB60F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32 Pán Ježiš je môj klen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môj kleno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neba,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mysel má môj živo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 ňom mojej cesty cieľ. : 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 večnej slávy priši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hriechu zbaviť, v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pozdrav Otca svet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on svätý Boží Sy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rany hriechu h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íši srdca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verne, pri mne st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tak, ako vždycky stál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lieb a Voda ži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svetla spás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ilou mojou b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keď zúri nepokoj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39:30Z</dcterms:modified>
  <cp:revision>22</cp:revision>
  <dc:subject/>
  <dc:title>Je veľký náš Pán, on slávy je Kráľ Nech do všetkých strán  spev vrúcnych znie chvál.</dc:title>
</cp:coreProperties>
</file>